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C4A-4862-4323-A759-BC12D2B425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2040" y="4725720"/>
            <a:ext cx="49687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ederfidi Lombarda sign EUR 225m Guarantee deal under C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ate: 21/04/2009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Rectangle 1474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718920" cy="49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"/>
          <p:cNvSpPr/>
          <p:nvPr/>
        </p:nvSpPr>
        <p:spPr>
          <a:xfrm>
            <a:off x="1187280" y="6021360"/>
            <a:ext cx="41752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Eurostile"/>
              </a:rPr>
              <a:t>Commissione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Eurostile"/>
              </a:rPr>
              <a:t>Imprese e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c.europa.eu/enterprise/informa/index.cfm" TargetMode="External"/><Relationship Id="rId3" Type="http://schemas.openxmlformats.org/officeDocument/2006/relationships/hyperlink" Target="http://ec.europa.eu/enterprise/entrepreneurship/financing/index_en.htm" TargetMode="External"/><Relationship Id="rId4" Type="http://schemas.openxmlformats.org/officeDocument/2006/relationships/hyperlink" Target="http://ec.europa.eu/enterprise/entrepreneurship/financing/enterprise_finance_index/index_en.htm" TargetMode="External"/><Relationship Id="rId5" Type="http://schemas.openxmlformats.org/officeDocument/2006/relationships/hyperlink" Target="http://ec.europa.eu/enterprise/sme/index_it.htm" TargetMode="External"/><Relationship Id="rId6" Type="http://schemas.openxmlformats.org/officeDocument/2006/relationships/hyperlink" Target="http://ec.europa.eu/youreurope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c.europa.eu/enterprise/entrepreneurship/sba_en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413000"/>
            <a:ext cx="7772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e politiche a favore delle PMI e il Programma Quadro per la Competitività e l’Innovazione (CIP)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860640"/>
            <a:ext cx="5257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r. Angelo WI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ità Finanziamento Innovazione e P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ttimana per le P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oma, 10 giugno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UISS Guido Ca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474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718920" cy="49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589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rese e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5fa9"/>
                </a:solidFill>
                <a:latin typeface="Arial"/>
              </a:rPr>
              <a:t>Programma Quadro Competitività e Innovazione - CIP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urata: 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 programmi specif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4 obiettivi: competitività &amp; innovazione, TIC e 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ec.europa.eu/cip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195732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Struttura del CIP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773360"/>
            <a:ext cx="3213000" cy="414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ovazione e imprenditorialità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 Unicode MS"/>
              </a:rPr>
              <a:t>(EIP)</a:t>
            </a:r>
            <a:r>
              <a:rPr b="0" lang="en-GB" sz="2400" spc="-1" strike="noStrike">
                <a:solidFill>
                  <a:srgbClr val="33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€ </a:t>
            </a: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2166 millioni</a:t>
            </a:r>
            <a:r>
              <a:rPr b="0" i="1" lang="en-GB" sz="1800" spc="-1" strike="noStrike">
                <a:solidFill>
                  <a:srgbClr val="333300"/>
                </a:solidFill>
                <a:latin typeface="Arial Unicode MS"/>
              </a:rPr>
              <a:t> incl</a:t>
            </a:r>
            <a:r>
              <a:rPr b="0" lang="en-GB" sz="2000" spc="-1" strike="noStrike">
                <a:solidFill>
                  <a:srgbClr val="333300"/>
                </a:solidFill>
                <a:latin typeface="Arial Unicode MS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333300"/>
                </a:solidFill>
                <a:latin typeface="Arial Unicode MS"/>
              </a:rPr>
              <a:t> </a:t>
            </a:r>
            <a:r>
              <a:rPr b="1" lang="fr-BE" sz="2000" spc="-1" strike="noStrike">
                <a:solidFill>
                  <a:srgbClr val="333300"/>
                </a:solidFill>
                <a:latin typeface="Arial Unicode MS"/>
              </a:rPr>
              <a:t>€ 1130</a:t>
            </a:r>
            <a:r>
              <a:rPr b="0" lang="fr-BE" sz="2000" spc="-1" strike="noStrike">
                <a:solidFill>
                  <a:srgbClr val="333300"/>
                </a:solidFill>
                <a:latin typeface="Arial Unicode MS"/>
              </a:rPr>
              <a:t> m strumenti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00"/>
                </a:solidFill>
                <a:latin typeface="Arial Unicode MS"/>
              </a:rPr>
              <a:t>€ </a:t>
            </a:r>
            <a:r>
              <a:rPr b="1" lang="fr-BE" sz="2000" spc="-1" strike="noStrike">
                <a:solidFill>
                  <a:srgbClr val="333300"/>
                </a:solidFill>
                <a:latin typeface="Arial Unicode MS"/>
              </a:rPr>
              <a:t>430 m</a:t>
            </a:r>
            <a:r>
              <a:rPr b="0" lang="fr-BE" sz="2000" spc="-1" strike="noStrike">
                <a:solidFill>
                  <a:srgbClr val="333300"/>
                </a:solidFill>
                <a:latin typeface="Arial Unicode MS"/>
              </a:rPr>
              <a:t> eco-inno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1746360"/>
            <a:ext cx="2209680" cy="4163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 Unicode MS"/>
              </a:rPr>
              <a:t>Tecn.d’Inform.e di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 Unicode MS"/>
              </a:rPr>
              <a:t>(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8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€ </a:t>
            </a: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728 mill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92720" y="1758960"/>
            <a:ext cx="2125440" cy="416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ergia intelligente </a:t>
            </a:r>
            <a:br>
              <a:rPr sz="2400"/>
            </a:br>
            <a:r>
              <a:rPr b="1" lang="en-GB" sz="2400" spc="-1" strike="noStrike">
                <a:solidFill>
                  <a:srgbClr val="333300"/>
                </a:solidFill>
                <a:latin typeface="Arial Unicode MS"/>
              </a:rPr>
              <a:t>(IEE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€ </a:t>
            </a:r>
            <a:r>
              <a:rPr b="1" lang="en-GB" sz="2200" spc="-1" strike="noStrike">
                <a:solidFill>
                  <a:srgbClr val="333300"/>
                </a:solidFill>
                <a:latin typeface="Arial Unicode MS"/>
              </a:rPr>
              <a:t>727 millioni</a:t>
            </a:r>
            <a:r>
              <a:rPr b="0" lang="en-GB" sz="2400" spc="-1" strike="noStrike">
                <a:solidFill>
                  <a:srgbClr val="333300"/>
                </a:solidFill>
                <a:latin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330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997360"/>
            <a:ext cx="7128000" cy="952200"/>
          </a:xfrm>
          <a:prstGeom prst="rightArrow">
            <a:avLst>
              <a:gd name="adj1" fmla="val 50000"/>
              <a:gd name="adj2" fmla="val 1871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66"/>
                </a:solidFill>
                <a:latin typeface="Arial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933720"/>
            <a:ext cx="7124760" cy="939960"/>
          </a:xfrm>
          <a:prstGeom prst="rightArrow">
            <a:avLst>
              <a:gd name="adj1" fmla="val 50000"/>
              <a:gd name="adj2" fmla="val 189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66"/>
                </a:solidFill>
                <a:latin typeface="Arial"/>
              </a:rPr>
              <a:t>Eco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5fa9"/>
                </a:solidFill>
                <a:latin typeface="Arial"/>
              </a:rPr>
              <a:t>Programma innovazione e imprenditorialità (EIP)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cesso al credito (strumenti finanzi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stegno per le imprese (rete 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novazione e eco-innovazione: cooperazione transnazionale, sostegno ai programmi nazionali/regionali, promozione r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ultura dell’imprenditorialità e dell’innovazione: promozione mentalità imprend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forme economiche e amministrative: raccolta dati, scambio di buone pr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519280" cy="1765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64000" y="457920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urope INNO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forma, supporta e mette in contatto gli operatori dell’innovazione e coinvolge più di 300 partners in 23 Stati Mem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4465440" cy="30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Politiche dell’EIP</a:t>
            </a:r>
            <a:r>
              <a:rPr b="1" lang="it-IT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5fa9"/>
                </a:solidFill>
                <a:latin typeface="Arial"/>
              </a:rPr>
              <a:t>(oltre agli strumenti finanziari)</a:t>
            </a:r>
            <a:endParaRPr b="1" lang="en-US" sz="18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69776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erprise Finance Inde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ortale che riunisce diverse fonti d’informazione che danno accesso a dati sul finanziamento delle P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Accesso al finanziamento: strumenti finanziari </a:t>
            </a:r>
            <a:r>
              <a:rPr b="1" lang="it-IT" sz="2000" spc="-1" strike="noStrike">
                <a:solidFill>
                  <a:srgbClr val="005fa9"/>
                </a:solidFill>
                <a:latin typeface="Arial"/>
              </a:rPr>
              <a:t>(1,1 mld. €)</a:t>
            </a:r>
            <a:endParaRPr b="1" lang="en-US" sz="2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Strumento a favore delle PMI innovative e a forte cre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F 1: costituzione e avviamento dell’impresa (esempio: fondi di avviamento o legati a incubatr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F 2: fase di espansione (esempio: fondi di investimento per PMI innovative ad alto potenziale di cresc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ME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Strumento di garanzie per le PMI: contro-garanzie e/o co-garanzie (esempio: microcrediti, “mezzanine-fina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B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Piano per lo sviluppo delle capacità: competenze tecniche dei fondi che investono in PMI innovative e procedure di valutazione domande di cred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access2finance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ec.europa.eu/enterprise/entrepreneurship/financing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eif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Funzionamento degli strumenti finanziari 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076640"/>
            <a:ext cx="685800" cy="838440"/>
          </a:xfrm>
          <a:prstGeom prst="downArrow">
            <a:avLst>
              <a:gd name="adj1" fmla="val 46065"/>
              <a:gd name="adj2" fmla="val 60432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4360" y="1628640"/>
            <a:ext cx="7580160" cy="4800600"/>
            <a:chOff x="684360" y="1628640"/>
            <a:chExt cx="7580160" cy="4800600"/>
          </a:xfrm>
        </p:grpSpPr>
        <p:sp>
          <p:nvSpPr>
            <p:cNvPr id="90" name=""/>
            <p:cNvSpPr/>
            <p:nvPr/>
          </p:nvSpPr>
          <p:spPr>
            <a:xfrm>
              <a:off x="3311640" y="4219200"/>
              <a:ext cx="2286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"/>
                </a:rPr>
                <a:t>Ban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78520" y="3228840"/>
              <a:ext cx="22860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Arial"/>
                </a:rPr>
                <a:t>Fondo in capita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Arial"/>
                </a:rPr>
                <a:t>di risch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095480" y="1628640"/>
              <a:ext cx="14796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95480" y="1628640"/>
              <a:ext cx="144792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66"/>
                  </a:solidFill>
                  <a:latin typeface="Arial"/>
                </a:rPr>
                <a:t>Budge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66"/>
                  </a:solidFill>
                  <a:latin typeface="Arial"/>
                </a:rPr>
                <a:t>dell’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588360" y="4829040"/>
              <a:ext cx="1676160" cy="914400"/>
              <a:chOff x="6588360" y="4829040"/>
              <a:chExt cx="1676160" cy="914400"/>
            </a:xfrm>
          </p:grpSpPr>
          <p:sp>
            <p:nvSpPr>
              <p:cNvPr id="95" name=""/>
              <p:cNvSpPr/>
              <p:nvPr/>
            </p:nvSpPr>
            <p:spPr>
              <a:xfrm>
                <a:off x="6588360" y="4981320"/>
                <a:ext cx="13716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40640" y="4905000"/>
                <a:ext cx="13716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92920" y="4829040"/>
                <a:ext cx="1371600" cy="76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S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88160" y="4676400"/>
              <a:ext cx="685800" cy="838440"/>
            </a:xfrm>
            <a:prstGeom prst="downArrow">
              <a:avLst>
                <a:gd name="adj1" fmla="val 46065"/>
                <a:gd name="adj2" fmla="val 6043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1120" y="5514840"/>
              <a:ext cx="1676520" cy="914400"/>
              <a:chOff x="3921120" y="5514840"/>
              <a:chExt cx="1676520" cy="914400"/>
            </a:xfrm>
          </p:grpSpPr>
          <p:sp>
            <p:nvSpPr>
              <p:cNvPr id="100" name=""/>
              <p:cNvSpPr/>
              <p:nvPr/>
            </p:nvSpPr>
            <p:spPr>
              <a:xfrm>
                <a:off x="3921120" y="5667120"/>
                <a:ext cx="13716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73760" y="5590800"/>
                <a:ext cx="13716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26040" y="5514840"/>
                <a:ext cx="1371600" cy="76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Arial"/>
                  </a:rPr>
                  <a:t>S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911840" y="2619000"/>
              <a:ext cx="685800" cy="1600200"/>
            </a:xfrm>
            <a:prstGeom prst="downArrow">
              <a:avLst>
                <a:gd name="adj1" fmla="val 45833"/>
                <a:gd name="adj2" fmla="val 55784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8720" y="2619000"/>
              <a:ext cx="685800" cy="609840"/>
            </a:xfrm>
            <a:prstGeom prst="downArrow">
              <a:avLst>
                <a:gd name="adj1" fmla="val 46065"/>
                <a:gd name="adj2" fmla="val 49431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45080" y="280476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ff0000"/>
                  </a:solidFill>
                  <a:latin typeface="Arial"/>
                </a:rPr>
                <a:t>Inve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12040" y="42670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ff0000"/>
                  </a:solidFill>
                  <a:latin typeface="Arial"/>
                </a:rPr>
                <a:t>Inves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495288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ff0000"/>
                  </a:solidFill>
                  <a:latin typeface="Arial"/>
                </a:rPr>
                <a:t>Eroga credi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49520" y="193320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360" y="2660400"/>
              <a:ext cx="22860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0920" y="3228840"/>
              <a:ext cx="25146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Arial"/>
                </a:rPr>
                <a:t>Istituto di garanz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8840" y="2619000"/>
              <a:ext cx="685800" cy="609840"/>
            </a:xfrm>
            <a:prstGeom prst="downArrow">
              <a:avLst>
                <a:gd name="adj1" fmla="val 46065"/>
                <a:gd name="adj2" fmla="val 49431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8840" y="3686040"/>
              <a:ext cx="685800" cy="533160"/>
            </a:xfrm>
            <a:prstGeom prst="downArrow">
              <a:avLst>
                <a:gd name="adj1" fmla="val 46065"/>
                <a:gd name="adj2" fmla="val 49431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1120" y="2804760"/>
              <a:ext cx="26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ff0000"/>
                  </a:solidFill>
                  <a:latin typeface="Arial"/>
                </a:rPr>
                <a:t>Contro- o co-garanz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311640" y="1628640"/>
              <a:ext cx="4952880" cy="990360"/>
              <a:chOff x="3311640" y="1628640"/>
              <a:chExt cx="4952880" cy="99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3311640" y="1628640"/>
                <a:ext cx="49528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240" y="1704600"/>
                <a:ext cx="2562120" cy="81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www.access2finance.eu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09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078" t="17989" r="2156" b="2512"/>
          <a:stretch/>
        </p:blipFill>
        <p:spPr>
          <a:xfrm>
            <a:off x="755640" y="981000"/>
            <a:ext cx="74199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509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15920"/>
            <a:ext cx="83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437millioni per garanzi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cilitand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421 000 crediti per PMI, ~90% micro impr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€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309milli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vestiti in 39 fondi in capitale di rischio facilitando investimenti in 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433 PM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ino ad o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ulteriori sul “Enterprise Finance Inde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5760" y="642960"/>
            <a:ext cx="77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Risultati del programma “MAP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7667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THE SKYPE STORY</a:t>
            </a:r>
            <a:r>
              <a:rPr b="1" lang="fr-BE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1413000"/>
            <a:ext cx="1081080" cy="609480"/>
          </a:xfrm>
          <a:prstGeom prst="flowChartProcess">
            <a:avLst/>
          </a:prstGeom>
          <a:solidFill>
            <a:srgbClr val="2e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2781360"/>
            <a:ext cx="1081080" cy="609480"/>
          </a:xfrm>
          <a:prstGeom prst="flowChartProcess">
            <a:avLst/>
          </a:prstGeom>
          <a:solidFill>
            <a:srgbClr val="2e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E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149720"/>
            <a:ext cx="4248000" cy="465120"/>
          </a:xfrm>
          <a:prstGeom prst="flowChartProcess">
            <a:avLst/>
          </a:prstGeom>
          <a:solidFill>
            <a:srgbClr val="2e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New Tech Venture Capital Fund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5445000"/>
            <a:ext cx="2016360" cy="609840"/>
          </a:xfrm>
          <a:prstGeom prst="flowChartProcess">
            <a:avLst/>
          </a:prstGeom>
          <a:solidFill>
            <a:srgbClr val="2e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5445000"/>
            <a:ext cx="1872000" cy="609840"/>
          </a:xfrm>
          <a:prstGeom prst="flowChartProcess">
            <a:avLst/>
          </a:prstGeom>
          <a:solidFill>
            <a:srgbClr val="2e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e-B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>
            <a:off x="3419280" y="5749560"/>
            <a:ext cx="2665800" cy="1080"/>
          </a:xfrm>
          <a:prstGeom prst="straightConnector1">
            <a:avLst/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5" idx="2"/>
            <a:endCxn id="126" idx="0"/>
          </p:cNvCxnSpPr>
          <p:nvPr/>
        </p:nvCxnSpPr>
        <p:spPr>
          <a:xfrm>
            <a:off x="2592000" y="2022480"/>
            <a:ext cx="1080" cy="759600"/>
          </a:xfrm>
          <a:prstGeom prst="straightConnector1">
            <a:avLst/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3"/>
            <a:endCxn id="127" idx="3"/>
          </p:cNvCxnSpPr>
          <p:nvPr/>
        </p:nvCxnSpPr>
        <p:spPr>
          <a:xfrm flipH="1" flipV="1">
            <a:off x="4715640" y="4382280"/>
            <a:ext cx="3241080" cy="1367640"/>
          </a:xfrm>
          <a:prstGeom prst="bentConnector3">
            <a:avLst>
              <a:gd name="adj1" fmla="val -705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9" idx="3"/>
            <a:endCxn id="127" idx="3"/>
          </p:cNvCxnSpPr>
          <p:nvPr/>
        </p:nvCxnSpPr>
        <p:spPr>
          <a:xfrm flipH="1" flipV="1">
            <a:off x="4715640" y="4382280"/>
            <a:ext cx="3241080" cy="1367640"/>
          </a:xfrm>
          <a:prstGeom prst="bentConnector3">
            <a:avLst>
              <a:gd name="adj1" fmla="val -7053"/>
            </a:avLst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6" idx="3"/>
          </p:cNvCxnSpPr>
          <p:nvPr/>
        </p:nvCxnSpPr>
        <p:spPr>
          <a:xfrm flipH="1" flipV="1">
            <a:off x="3131280" y="3085920"/>
            <a:ext cx="1585080" cy="1297440"/>
          </a:xfrm>
          <a:prstGeom prst="bentConnector3">
            <a:avLst>
              <a:gd name="adj1" fmla="val -14425"/>
            </a:avLst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25" idx="3"/>
          </p:cNvCxnSpPr>
          <p:nvPr/>
        </p:nvCxnSpPr>
        <p:spPr>
          <a:xfrm flipV="1">
            <a:off x="3131640" y="1717200"/>
            <a:ext cx="2520" cy="1369440"/>
          </a:xfrm>
          <a:prstGeom prst="bentConnector3">
            <a:avLst>
              <a:gd name="adj1" fmla="val 14400000"/>
            </a:avLst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68360" y="4653000"/>
            <a:ext cx="1800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333399"/>
                </a:solidFill>
                <a:latin typeface="Tahoma"/>
              </a:rPr>
              <a:t>Small shareholding in the company</a:t>
            </a:r>
            <a:r>
              <a:rPr b="1" lang="fr-BE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284640"/>
            <a:ext cx="1655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333399"/>
                </a:solidFill>
                <a:latin typeface="Tahoma"/>
              </a:rPr>
              <a:t>Cornestone shareholder of the F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084640"/>
            <a:ext cx="158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333399"/>
                </a:solidFill>
                <a:latin typeface="Tahoma"/>
              </a:rPr>
              <a:t>USD 2.6 bill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5805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333399"/>
                </a:solidFill>
                <a:latin typeface="Tahoma"/>
              </a:rPr>
              <a:t>As reported by the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2555640" y="3429000"/>
            <a:ext cx="1080" cy="759600"/>
          </a:xfrm>
          <a:prstGeom prst="straightConnector1">
            <a:avLst/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2484000" y="4653000"/>
            <a:ext cx="1080" cy="759600"/>
          </a:xfrm>
          <a:prstGeom prst="straightConnector1">
            <a:avLst/>
          </a:prstGeom>
          <a:ln w="25560">
            <a:solidFill>
              <a:srgbClr val="2e458c"/>
            </a:solidFill>
            <a:miter/>
            <a:tailEnd len="med" type="triangle" w="med"/>
          </a:ln>
        </p:spPr>
      </p:cxn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5236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politica Europea in favore delle P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Small Busines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trategia di Lisb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ettimana delle P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rogramma Quadro per la Competitività e Innovazione (C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strumenti finanziari del C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Sommario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L’UE e le PMI: i programmi di finanziamento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sicurare l’accesso a finanziamento per tutte le PMI: CIP (EIP) e Fondi Strutturali (“Strumenti finanziari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rammi legati ad altre politiche comunitarie (ambiente, educazione …) –    co-finanziamento di pro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ttp://ec.europa.eu/enterprise/sme/funding_it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Contatti DG Imprese e Industria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to web/e-mail della DG Imprese e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nterprise/informa/index.cf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tr-informa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nanziamento delle Imprese </a:t>
            </a:r>
            <a:r>
              <a:rPr b="1" lang="it-IT" sz="1800" spc="-1" strike="noStrike">
                <a:solidFill>
                  <a:srgbClr val="ff3300"/>
                </a:solidFill>
                <a:latin typeface="Showcard 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c.europa.eu/enterprise/entrepreneurship/financing/index_e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c.europa.eu/enterprise/entrepreneurship/financing/enterprise_finance_index/index_en.ht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litica per le P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c.europa.eu/enterprise/sme/index_it.ht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tu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c.europa.eu/youreurope/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Grazie per la Vostra attenzione!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I problemi delle PMI</a:t>
            </a:r>
            <a:br>
              <a:rPr sz="4000"/>
            </a:br>
            <a:r>
              <a:rPr b="1" lang="it-IT" sz="2000" spc="-1" strike="noStrike">
                <a:solidFill>
                  <a:srgbClr val="005fa9"/>
                </a:solidFill>
                <a:latin typeface="Arial"/>
              </a:rPr>
              <a:t>(Flash Eurobarometer 2007)</a:t>
            </a:r>
            <a:endParaRPr b="1" lang="en-US" sz="2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tere d’acquisto dei cli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gislazione e regola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/costi di personale qualific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rastrut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cesso ai finanzia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cesso ai nuovi mercati, a ricerca e innovazione ed a reti profes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L’UE e le PMI: le iniziative politiche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mmissione: Ruolo di co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000: Carta Europea per le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005: Rilancio della Strategia di Lisb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o 2008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008: Small Business Act per l’Eu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nterprise/entrepreneurship/sba_e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ttimana delle PMI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Che cosa è il SBA?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ncipi politici vincol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zioni concrete (legislative e non-legisl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uazione nel quadro della Strategia di Lisb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10 principi politici vincolanti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re un ambiente favorevole per imprenditori e imprese di fam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icurare che imprenditori onesti avranno una seconda chance dopo fal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attare regole al principio “Think Small Fir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ministrazione attenta alle necessità delle P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cilitare la partecipazione delle PMI in bandi pubblici e miglior uso di aiuti di s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…</a:t>
            </a: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10 principi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gliorare l’accesso delle PMI al finanzi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assicurare pagamenti commerciali in prima del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iutare le PMI di sfruttare il mercato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abilità e innovazione in P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iutare le PMI di realizzare le opportunità imprenditorie create dal cambiamento clima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coraggiare PMI di approfittare della crescita di merc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Strategia di Lisbona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34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ti Membri attuano riforme secondo programmi nazionali di riforma sulla base di orientamenti integrati (2008-2010), approvati da tutti gli Stati Memb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gni anno gli Stati Membri producono rapporti per dimostrare il progr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ogni Stato Membro un/a “Mr/Ms Lisbon” coordina il lavoro dei ministeri coinvolti nella Strategia di Lisb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5fa9"/>
                </a:solidFill>
                <a:latin typeface="Arial"/>
              </a:rPr>
              <a:t>Prima Settimana delle PMI</a:t>
            </a:r>
            <a:endParaRPr b="1" lang="en-US" sz="40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34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l 6 al 14 maggi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lo spirito imprenditoriale e informare gli imprenditori sul supporto a loro favore a livello europeo, nazionale e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ordinata dalla Direzione Generale Imprese e Industria della Commissione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ggior parte degli eventi e attività organizzate da organizzazioni professionali, autorità regionali/locali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ec.europa.eu/enterprise/policies/entrepreneurship/sme-week/index_i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Didattica</cp:lastModifiedBy>
  <cp:lastPrinted>2008-06-02T19:37:29Z</cp:lastPrinted>
  <dcterms:modified xsi:type="dcterms:W3CDTF">2009-06-10T12:51:20Z</dcterms:modified>
  <cp:revision>57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5587448</vt:r8>
  </property>
  <property fmtid="{D5CDD505-2E9C-101B-9397-08002B2CF9AE}" pid="3" name="_AuthorEmail">
    <vt:lpwstr>guida@cndcec.it</vt:lpwstr>
  </property>
  <property fmtid="{D5CDD505-2E9C-101B-9397-08002B2CF9AE}" pid="4" name="_AuthorEmailDisplayName">
    <vt:lpwstr>Guida Marianna</vt:lpwstr>
  </property>
  <property fmtid="{D5CDD505-2E9C-101B-9397-08002B2CF9AE}" pid="5" name="_EmailSubject">
    <vt:lpwstr>ATTI Convegno 10 giugno LUISS - 1/2</vt:lpwstr>
  </property>
  <property fmtid="{D5CDD505-2E9C-101B-9397-08002B2CF9AE}" pid="6" name="_NewReviewCycle">
    <vt:lpwstr/>
  </property>
</Properties>
</file>